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FCC-370D-4C72-B72B-656302DB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B6F-DBFB-4209-92CC-BEBF5A4D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56D-BF4C-4FDA-9BCD-401E2759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F2E-1B4C-4626-90D5-6AD2BBDE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280-B9C7-48E7-A11D-BBFEC42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CB0-FCDE-4D2A-B50F-CF1F3744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378-2F10-4343-B7EF-088EA97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D06-472C-4A83-A9E7-8039FEB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02D-6EA8-46BF-B891-6A790D7E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EF8-83CD-4C73-8B57-84F6714B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CBC-CFFB-4FB1-991E-4EFC37E7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A1A-891F-40E8-BD09-FED86D1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678E-7310-4544-8E7E-47AC0E333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13800" cy="653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836640"/>
            <a:ext cx="8497800" cy="79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Flubber"/>
              </a:rPr>
              <a:t>Optical Illusion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06360"/>
            <a:ext cx="813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349200"/>
            <a:ext cx="813600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819680" cy="619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24360" y="1197000"/>
            <a:ext cx="31687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notice the small grayish dots between the black box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part of the drawing - they were put there by your brain! Scientists call this "visual vibration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696000" cy="471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551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lephant is missing a leg...or is it? The artist confuses his viewer by changing they way our brain is used to seeing things. It seems the more you look at the elephant, the more confusing it g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507000" cy="507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566100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see the gears mov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the dot and then move your head towards the screen and away from i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07240" cy="5102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805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llusion uses conflicting images from each eye to fool your brain into thinking there is spin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078680" cy="5032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5661000"/>
            <a:ext cx="813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y, this is weird. It looks as though it's moving, but it's 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hapes confuse the eye (really the brain) into believing that they are mov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022720" cy="503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33336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out the spiral...except it is not a spiral, just circl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't believe me? Use your finger to follow the fake spir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lt of the boxes fools your brain into believing it is a spi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3344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384720" cy="257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468360" y="4437000"/>
            <a:ext cx="3527640" cy="268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59280" y="1341360"/>
            <a:ext cx="558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Ravie"/>
              </a:rPr>
              <a:t>Test your colour blindn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4836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4:32:36Z</dcterms:created>
  <dc:creator>Information Technology</dc:creator>
  <dc:description/>
  <dc:language>en-US</dc:language>
  <cp:lastModifiedBy>Information Technology</cp:lastModifiedBy>
  <dcterms:modified xsi:type="dcterms:W3CDTF">2006-01-20T18:51:07Z</dcterms:modified>
  <cp:revision>5</cp:revision>
  <dc:subject/>
  <dc:title>Slide 1</dc:title>
</cp:coreProperties>
</file>